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78A-F866-41FE-B56E-1232FDF2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2F0-E3E3-4860-9142-74FEA2CD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010-94E5-42C2-A4E0-17EDF484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22F-C9E6-4B66-AFC2-463E569B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AA4-343F-4C36-9E13-D62D8FEF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23E-23F2-4922-B26A-E116865F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FCD-3DDE-47BE-B5A1-1704D10A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1F6-02D1-4827-B8C0-8929ACF4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4F0-D2CB-4C8E-B03E-E56C9B71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69D-CE78-4DA9-ADBC-003B6671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525-6E99-43D4-8708-F6507E24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364-7318-44CE-A2AE-22FEF7F2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CE1-CDA0-4013-9DAF-B56EB401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8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1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inter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oking at the pictures on the bottom of p. 24,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ndo juegan México y Hondu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juegan México y Hondu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deporte jue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.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.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leta p.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leta p.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5:48:13Z</dcterms:created>
  <dc:creator>Helen Zumaeta</dc:creator>
  <dc:description/>
  <dc:language>en-US</dc:language>
  <cp:lastModifiedBy>Helen Zumaeta</cp:lastModifiedBy>
  <dcterms:modified xsi:type="dcterms:W3CDTF">2012-10-17T16:05:48Z</dcterms:modified>
  <cp:revision>6</cp:revision>
  <dc:subject/>
  <dc:title>Me llamo ________ Clase 6 nh/il La fecha es el 13 de junio del 2011</dc:title>
</cp:coreProperties>
</file>